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C4664-8163-4D47-B245-383035C8C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00540-9BB4-4EEE-BE3F-F4B4BD054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E96F4-4AB2-4057-9982-8D7EE880C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B6BAB-E7F9-4AE7-AD33-4B71DC9BE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8DBC8-2A57-40AE-9D82-A02776933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49"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C7B10-8115-484D-9C4C-33DE1C69D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1"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DEF1E-5CD6-4C12-B147-90BB5A1B5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3"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2B4C7-D765-416A-B3A1-0A124F2A9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F781F-0FC8-4471-9E12-08FE8DD9C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5DCF7-E4CB-4EBE-A126-3F8E64527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B5FF4-A136-41E8-9E3D-A99B1238D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2B300-136B-46B7-AEB7-CFC1A358D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B283F-12BA-4199-BC1C-B01512A6F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728CF-502C-4297-A2B0-ADC284EE8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0"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1"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5350D-13A8-4D22-877E-F39FE8120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4"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2272C-E622-44B0-818A-40DC263FC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2"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3"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81C5F-B2FC-440F-8A37-2540F5564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E2DA39-3EE5-490F-9EAD-5B5F037D86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ACA90-9226-40FB-94D0-FFC90B79A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A2630E-05BC-4D63-AC40-A2091597F5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8D6B4-8B1E-4E91-98C6-3DAD995E3B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0C072-B535-4C93-A100-2B4F8DC474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FC1FA-D5C8-44B0-8BA4-3062E6AC6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ED53C3-4EAC-46BB-91B5-125E6666B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B8CD2-5E8E-4C21-A120-C56180504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8876DF-E9DB-4B4A-BB76-44C865A3B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9947B-59FB-4BEA-8743-F93243430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B6E26-A150-49C0-BF7B-E149FC9B5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703C07-43C5-4CB9-9DC7-9F237B9E98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307AA1-348F-460D-9950-AA5F2E630D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17F7E2-A25D-4CA4-946F-7D577BF4AE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91945A-7336-4F63-9AA7-C8D73888D2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DE9FE0-BFD4-4EE3-A608-BD10D29304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2DFA9-9CAA-4723-BEFA-51B7283C5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4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609AF-6F0E-4CBF-90AF-14DCB2BF64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2ABF82-2305-43C0-916F-822065079E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3B3D62-871F-4503-84F8-02D9185DEE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CAE9A-C656-4E1F-884D-C275DC6E8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7CDFB-32AB-4834-8440-BFD0CC4EC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7111B-48A9-4065-AFA6-5170B9564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F7412-AFA1-43BF-ABE7-42C7B33E6D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8D04D9-7948-454E-8D55-BF330299E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508F01-71E6-4A29-89F9-98BC0D08E6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3B41B9-FE3F-492B-9632-9DE5B0D3E8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5F015-85DA-4A04-9132-48848FBA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8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3C028D-062B-4C04-846D-151269C07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B70407-1594-45BC-864D-46D502158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76BF48-C551-49A1-96F4-878DFE45B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9A4E2-7E79-48C8-8C3C-88D5B69318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DEFF62-6C08-4A7D-9E9B-317A04727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3E65A-76CA-4C8D-88C2-82972D7CF0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86139C-D996-4C51-BC0F-4E57661386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5B1CD9-5288-445E-B5D3-69B2FC159E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35103-C5DA-465D-A091-E96ABAB2E9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6AF713-257B-46AA-BAA7-008372BD41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08AB5-EEB9-42EE-88E8-A2E59A51F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2B2C4B-136E-41EB-8FEB-AA49C8D1E6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A11E38-56BD-4F7F-A19C-681A4375ED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1EB68C-9A41-413D-9A4A-D5C996B5B8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C761AA-AE6D-479F-94FA-EB57B6E69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AB62BC-B309-4B02-8A51-0F5BAB0475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B29AF7-D07A-4215-96ED-66AE96C6E0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3A6AD2-9608-4C07-89EB-EC56E667D2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8F92A9-5DAF-4382-8C67-379B4183B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685FC7-DFCE-4A9D-AA9D-0253B9D34E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C4842A-11C4-47E4-A3E0-364C16B27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25426-22FF-489B-9B34-6FDF8E513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4DAFAF-9C2F-4697-A32F-1B8D796217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99AED8-6574-4F4B-B097-5E7A6EB819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8EB8F0-7EFC-4C21-A4E8-942CFEB078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026B9-88A7-4130-93A2-68B35A29C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D6078-C900-4D5B-AA9B-2EA506077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B1C26-34EA-4C2C-A0AD-32DD450305C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BA13E-98FD-408A-8D3B-AE17200A895F}" type="datetime">
              <a:rPr b="0" lang="fr-FR"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D1133-58FA-40CE-9F22-47F747F03B1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0"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95EA1-1780-41E7-97CA-2BDD5D82466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31" name="Rectangle à coins arrondis 10"/>
          <p:cNvGrpSpPr/>
          <p:nvPr/>
        </p:nvGrpSpPr>
        <p:grpSpPr>
          <a:xfrm>
            <a:off x="55440" y="60480"/>
            <a:ext cx="9033120" cy="6711840"/>
            <a:chOff x="55440" y="60480"/>
            <a:chExt cx="9033120" cy="6711840"/>
          </a:xfrm>
        </p:grpSpPr>
        <p:pic>
          <p:nvPicPr>
            <p:cNvPr id="132" name="Rectangle à coins arrondis 10" descr=""/>
            <p:cNvPicPr/>
            <p:nvPr/>
          </p:nvPicPr>
          <p:blipFill>
            <a:blip r:embed="rId3"/>
            <a:stretch/>
          </p:blipFill>
          <p:spPr>
            <a:xfrm>
              <a:off x="55440" y="60480"/>
              <a:ext cx="903312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38"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DF831-A85A-41A1-A600-F4448B39EA2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81BF0-7844-4FA7-BEA4-6B7881899EC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29"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0"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232" name="PlaceHolder 5"/>
          <p:cNvSpPr>
            <a:spLocks noGrp="1"/>
          </p:cNvSpPr>
          <p:nvPr>
            <p:ph type="sldNum" idx="18"/>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0A0A5-FEDB-441A-A6A3-0F667D7BCC6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E89E8-5735-42F4-9138-5731CEA54E0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3" name="Group 7"/>
          <p:cNvGrpSpPr/>
          <p:nvPr/>
        </p:nvGrpSpPr>
        <p:grpSpPr>
          <a:xfrm>
            <a:off x="2209680" y="3213000"/>
            <a:ext cx="4730760" cy="2832120"/>
            <a:chOff x="2209680" y="3213000"/>
            <a:chExt cx="4730760" cy="2832120"/>
          </a:xfrm>
        </p:grpSpPr>
        <p:pic>
          <p:nvPicPr>
            <p:cNvPr id="274"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5"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Overview of results</a:t>
            </a:r>
            <a:endParaRPr b="0" lang="en-US" sz="28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graphical interface provides a representation of the hypotheses likelihood over time.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colored line represents the Ground Truth Micro-scenario (prex M): green if it appears likely, blue if unlikely. The dot colors represent the High, Medium, Low confidence ranges (resp. green, yellow, red). Each dot is 1 second. Arrows show agent creatio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figure shows two predictive actions from the Basal Physiology Stat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loring new Micro-Scenarios (zoom E), which in turn create States for their own verification</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nticipation, which is a result of a lower confidence value for at least anticipation.</a:t>
            </a:r>
            <a:endParaRPr b="0" lang="en-US" sz="1600" spc="-1" strike="noStrike">
              <a:solidFill>
                <a:srgbClr val="000000"/>
              </a:solidFill>
              <a:latin typeface="Perpetua"/>
            </a:endParaRPr>
          </a:p>
        </p:txBody>
      </p:sp>
      <p:sp>
        <p:nvSpPr>
          <p:cNvPr id="32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8EDCA-A11C-451F-A263-C694276DBFA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Overview of results</a:t>
            </a:r>
            <a:endParaRPr b="0" lang="en-US" sz="2800" spc="-1" strike="noStrike">
              <a:solidFill>
                <a:srgbClr val="696464"/>
              </a:solidFill>
              <a:latin typeface="Franklin Gothic Book"/>
            </a:endParaRPr>
          </a:p>
        </p:txBody>
      </p:sp>
      <p:sp>
        <p:nvSpPr>
          <p:cNvPr id="32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FEBCD-CC01-4A85-94A1-0CFE44EC146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9" name="Image 6" descr=""/>
          <p:cNvPicPr/>
          <p:nvPr/>
        </p:nvPicPr>
        <p:blipFill>
          <a:blip r:embed="rId1"/>
          <a:stretch/>
        </p:blipFill>
        <p:spPr>
          <a:xfrm>
            <a:off x="603360" y="1403280"/>
            <a:ext cx="7721640" cy="45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t aimed at checking the system accuracy, in terms of its mere results, but rather oriented toward the estimation of the interpretative process unfolding</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erimentation articulated around a set of functional and non-functional properties, some of which are supported by qualitative, analytical discussions, others by carefully defined quantitative measures</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nctional claims:</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ffectiveness: precision and recall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fficiency (computing cost)</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ensitivity: adaptation to varying contextual frame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obustness: ability to maintain a stable behavior, to recover from critical situations</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Non-Functional claims:</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ressiveness: a wide variety of situations can be modeled and rules are declarative and open</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formativeness (extent of the hypothesis population at given time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utility: the system balances openness (exploration of new hypothetical frames) and focus (readability of the hypothesis population)</a:t>
            </a:r>
            <a:endParaRPr b="0" lang="en-US" sz="1600" spc="-1" strike="noStrike">
              <a:solidFill>
                <a:srgbClr val="000000"/>
              </a:solidFill>
              <a:latin typeface="Perpetua"/>
            </a:endParaRPr>
          </a:p>
        </p:txBody>
      </p:sp>
      <p:sp>
        <p:nvSpPr>
          <p:cNvPr id="33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E4764-F726-479D-821B-79647CBAE6D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649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36" name=""/>
          <p:cNvSpPr txBox="1"/>
          <p:nvPr/>
        </p:nvSpPr>
        <p:spPr>
          <a:xfrm>
            <a:off x="914400" y="1118880"/>
            <a:ext cx="7772400" cy="490068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cision metrics Q function of the number of likely Micro-scenarios, nlikely(t)</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Q(t) = 0 if nlikely(t) = 0 ; Q(t) = 1/nlikely(t) otherwis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closer to 1 Q(t) is, the less ambiguity is obtained</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ccuracy metrics Acc (RelAcc) function of the time spent in « relevant » hypotheses according to ground truth</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cc = Ntrue/Ntotal with Ntrue the time spent with highly confident relevant hypotheses (« ground truth" Micro-Scenario considered likely); dependent on model qualit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elAcc = Nactive/Ntotal with Nactive the time spent in examining relevant hypotheses (« ground truth » Micro-Scenario evaluated (regardless of how likely it then appeared). Relative Accuracy reflects how well the system chose its hypothese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ime to Recovery </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TR: number of seconds a Probe stays in an Alarming policy after forcing policy revision. This measures how quickly the system reacts to interpretation failure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nticipation Success </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ate ASR = x/nA where x is incremented each time a State agent receives a notification that one of its successors was validated. nA is the total number of times any State agent entered Anticipation. This measures the utility of prediction.</a:t>
            </a:r>
            <a:endParaRPr b="0" lang="en-US" sz="1600" spc="-1" strike="noStrike">
              <a:solidFill>
                <a:srgbClr val="000000"/>
              </a:solidFill>
              <a:latin typeface="Perpetua"/>
            </a:endParaRPr>
          </a:p>
        </p:txBody>
      </p:sp>
      <p:sp>
        <p:nvSpPr>
          <p:cNvPr id="33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6B560-B25C-4D1E-95FF-D006F75D868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638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41" name=""/>
          <p:cNvSpPr txBox="1"/>
          <p:nvPr/>
        </p:nvSpPr>
        <p:spPr>
          <a:xfrm>
            <a:off x="914400" y="974520"/>
            <a:ext cx="7772400" cy="2269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mproving informativity by reducing ambiguity</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verall effect of forced anticipation (on the whole 2-hour Scenario): the number of agent is regulated, with less ambiguity in hypothesis management</a:t>
            </a:r>
            <a:endParaRPr b="0" lang="en-US" sz="1800" spc="-1" strike="noStrike">
              <a:solidFill>
                <a:srgbClr val="000000"/>
              </a:solidFill>
              <a:latin typeface="Perpetua"/>
            </a:endParaRPr>
          </a:p>
        </p:txBody>
      </p:sp>
      <p:sp>
        <p:nvSpPr>
          <p:cNvPr id="3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61D8B-CE96-477F-A30D-ED4EB6CB28F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5" name="Image 6" descr=""/>
          <p:cNvPicPr/>
          <p:nvPr/>
        </p:nvPicPr>
        <p:blipFill>
          <a:blip r:embed="rId1"/>
          <a:stretch/>
        </p:blipFill>
        <p:spPr>
          <a:xfrm>
            <a:off x="324000" y="2386080"/>
            <a:ext cx="8567640" cy="24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680"/>
            <a:ext cx="7772400" cy="590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47" name=""/>
          <p:cNvSpPr txBox="1"/>
          <p:nvPr/>
        </p:nvSpPr>
        <p:spPr>
          <a:xfrm>
            <a:off x="914400" y="864720"/>
            <a:ext cx="7772400" cy="104004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isabled Probe version: a higher ASR, which is expected since the probe forces Anticipation in the State agents and therefore increases the number of unsuccessful anticipations, but a gain in Q (lss ambiguity)</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5F760-C51A-423F-82D6-5F68EA7C047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1" name="Image 6" descr=""/>
          <p:cNvPicPr/>
          <p:nvPr/>
        </p:nvPicPr>
        <p:blipFill>
          <a:blip r:embed="rId1"/>
          <a:stretch/>
        </p:blipFill>
        <p:spPr>
          <a:xfrm>
            <a:off x="741240" y="1905120"/>
            <a:ext cx="7945560" cy="42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VII – Evaluative Experiments</a:t>
            </a:r>
            <a:endParaRPr b="0" lang="en-US" sz="2400" spc="-1" strike="noStrike">
              <a:solidFill>
                <a:srgbClr val="000000"/>
              </a:solidFill>
              <a:latin typeface="Perpetua"/>
            </a:endParaRPr>
          </a:p>
        </p:txBody>
      </p:sp>
      <p:sp>
        <p:nvSpPr>
          <p:cNvPr id="27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1900B-397B-40BF-9965-D3BB02AB513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II – Evaluative Experiments</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1. Data gathered, experimental condition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2. Overview of result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3. Evaluating the system adaptation potential</a:t>
            </a:r>
            <a:endParaRPr b="0" lang="en-US" sz="2400" spc="-1" strike="noStrike">
              <a:solidFill>
                <a:srgbClr val="000000"/>
              </a:solidFill>
              <a:latin typeface="Perpetua"/>
            </a:endParaRPr>
          </a:p>
        </p:txBody>
      </p:sp>
      <p:sp>
        <p:nvSpPr>
          <p:cNvPr id="2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05FFD-AA20-471F-B2B5-ED042FA6F65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Real data acquired using a monitoring belt (Zephyr BioHarness) from which we retrieve Heart- and Breath-Rates, Accelerometers, Cutaneous temperature and angle of the tors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wo sets of data totaling more than twelve hours of monitoring: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ffice consists in annotated Activities of Daily Life (ADL) situ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utdoors includes both cycling in town and hiking in the Alps</a:t>
            </a:r>
            <a:endParaRPr b="0" lang="en-US" sz="2000" spc="-1" strike="noStrike">
              <a:solidFill>
                <a:srgbClr val="000000"/>
              </a:solidFill>
              <a:latin typeface="Perpetua"/>
            </a:endParaRPr>
          </a:p>
        </p:txBody>
      </p:sp>
      <p:sp>
        <p:nvSpPr>
          <p:cNvPr id="28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8E403-CDC5-4770-8EAC-95DCEAD407A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Espace réservé de la date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2" name="Espace réservé du pied de page 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3" name="Espace réservé du numéro de diapositive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64835-ED8C-4AC0-B15D-53D2E812214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Image 4" descr=""/>
          <p:cNvPicPr/>
          <p:nvPr/>
        </p:nvPicPr>
        <p:blipFill>
          <a:blip r:embed="rId1"/>
          <a:stretch/>
        </p:blipFill>
        <p:spPr>
          <a:xfrm>
            <a:off x="0" y="0"/>
            <a:ext cx="9369360" cy="6526080"/>
          </a:xfrm>
          <a:prstGeom prst="rect">
            <a:avLst/>
          </a:prstGeom>
          <a:ln w="0">
            <a:noFill/>
          </a:ln>
        </p:spPr>
      </p:pic>
      <p:sp>
        <p:nvSpPr>
          <p:cNvPr id="295" name="Titre 8"/>
          <p:cNvSpPr/>
          <p:nvPr/>
        </p:nvSpPr>
        <p:spPr>
          <a:xfrm>
            <a:off x="914400" y="0"/>
            <a:ext cx="7772400" cy="773280"/>
          </a:xfrm>
          <a:prstGeom prst="rect">
            <a:avLst/>
          </a:prstGeom>
          <a:solidFill>
            <a:srgbClr val="ffffff"/>
          </a:solid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Image 6" descr=""/>
          <p:cNvPicPr/>
          <p:nvPr/>
        </p:nvPicPr>
        <p:blipFill>
          <a:blip r:embed="rId1"/>
          <a:stretch/>
        </p:blipFill>
        <p:spPr>
          <a:xfrm>
            <a:off x="1781280" y="3230640"/>
            <a:ext cx="6191280" cy="2325600"/>
          </a:xfrm>
          <a:prstGeom prst="rect">
            <a:avLst/>
          </a:prstGeom>
          <a:ln w="0">
            <a:noFill/>
          </a:ln>
        </p:spPr>
      </p:pic>
      <p:sp>
        <p:nvSpPr>
          <p:cNvPr id="29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data are noisy, and may contain freak values, for example when the person re-adjusts the monitoring belt, as it may chafe (especially with sweat during physical effort, or after a meal), or when removing a garment, etc.</a:t>
            </a:r>
            <a:endParaRPr b="0" lang="en-US" sz="2400" spc="-1" strike="noStrike">
              <a:solidFill>
                <a:srgbClr val="000000"/>
              </a:solidFill>
              <a:latin typeface="Perpetua"/>
            </a:endParaRPr>
          </a:p>
        </p:txBody>
      </p:sp>
      <p:sp>
        <p:nvSpPr>
          <p:cNvPr id="29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D1731-5363-4596-9BDC-F66DF7C1D49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03" name=""/>
          <p:cNvSpPr txBox="1"/>
          <p:nvPr/>
        </p:nvSpPr>
        <p:spPr>
          <a:xfrm>
            <a:off x="914400" y="1447560"/>
            <a:ext cx="7772400" cy="549000"/>
          </a:xfrm>
          <a:prstGeom prst="rect">
            <a:avLst/>
          </a:prstGeom>
          <a:noFill/>
          <a:ln w="0">
            <a:noFill/>
          </a:ln>
        </p:spPr>
        <p:txBody>
          <a:bodyPr anchor="t">
            <a:normAutofit fontScale="79000"/>
          </a:bodyPr>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 Collective dimension »: fusing data from several persons</a:t>
            </a:r>
            <a:endParaRPr b="0" lang="en-US" sz="2400" spc="-1" strike="noStrike">
              <a:solidFill>
                <a:srgbClr val="000000"/>
              </a:solidFill>
              <a:latin typeface="Perpetua"/>
            </a:endParaRPr>
          </a:p>
        </p:txBody>
      </p:sp>
      <p:sp>
        <p:nvSpPr>
          <p:cNvPr id="30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C0D60-8195-4A25-8AC6-4F3A2B0DEFA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7" name="Graphique 6" descr=""/>
          <p:cNvPicPr/>
          <p:nvPr/>
        </p:nvPicPr>
        <p:blipFill>
          <a:blip r:embed="rId1"/>
          <a:stretch/>
        </p:blipFill>
        <p:spPr>
          <a:xfrm>
            <a:off x="1090440" y="2243160"/>
            <a:ext cx="6755040" cy="368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0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25474-19E5-49EA-BB0A-6AF6B5507E2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2" name="Image 7" descr=""/>
          <p:cNvPicPr/>
          <p:nvPr/>
        </p:nvPicPr>
        <p:blipFill>
          <a:blip r:embed="rId1"/>
          <a:stretch/>
        </p:blipFill>
        <p:spPr>
          <a:xfrm>
            <a:off x="1231920" y="2419200"/>
            <a:ext cx="7289640" cy="3614760"/>
          </a:xfrm>
          <a:prstGeom prst="rect">
            <a:avLst/>
          </a:prstGeom>
          <a:ln w="0">
            <a:noFill/>
          </a:ln>
        </p:spPr>
      </p:pic>
      <p:sp>
        <p:nvSpPr>
          <p:cNvPr id="313" name=""/>
          <p:cNvSpPr txBox="1"/>
          <p:nvPr/>
        </p:nvSpPr>
        <p:spPr>
          <a:xfrm>
            <a:off x="914400" y="1274760"/>
            <a:ext cx="7772400" cy="2178000"/>
          </a:xfrm>
          <a:prstGeom prst="rect">
            <a:avLst/>
          </a:prstGeom>
          <a:solidFill>
            <a:srgbClr val="ffffff"/>
          </a:solid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Backpack Break » during a mountain Hiking session. Complementarity of Physiology and Actimetry: The Movement (Mvt, box A) and Position (Pos, longitudinal angle: box B) provide clues to an event (break) that is invisible with regards to Heart Rate (HR, bpm).</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680"/>
            <a:ext cx="7772400" cy="684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15" name=""/>
          <p:cNvSpPr txBox="1"/>
          <p:nvPr/>
        </p:nvSpPr>
        <p:spPr>
          <a:xfrm>
            <a:off x="914400" y="1061640"/>
            <a:ext cx="7772400" cy="2436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 box shows how the Heart Rate increases during a period of walking (in the mountai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B box shows that when the person stops, there is a delay before HR begins to decrease (recovery state). This delay supports our division of L2 States into Physiology and Activity categories, as knowledge about the physical activity allows us to anticipate on the physiology.</a:t>
            </a:r>
            <a:endParaRPr b="0" lang="en-US" sz="2000" spc="-1" strike="noStrike">
              <a:solidFill>
                <a:srgbClr val="000000"/>
              </a:solidFill>
              <a:latin typeface="Perpetua"/>
            </a:endParaRPr>
          </a:p>
        </p:txBody>
      </p:sp>
      <p:sp>
        <p:nvSpPr>
          <p:cNvPr id="31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1BF96-4E55-4CBD-98A8-024D36B6A6B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9" name="Image 6" descr=""/>
          <p:cNvPicPr/>
          <p:nvPr/>
        </p:nvPicPr>
        <p:blipFill>
          <a:blip r:embed="rId1"/>
          <a:stretch/>
        </p:blipFill>
        <p:spPr>
          <a:xfrm>
            <a:off x="1204920" y="3083040"/>
            <a:ext cx="6892920" cy="29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3:02:33Z</dcterms:created>
  <dc:creator>Garbay Catherine</dc:creator>
  <dc:description/>
  <dc:language>en-US</dc:language>
  <cp:lastModifiedBy>Garbay Catherine</cp:lastModifiedBy>
  <cp:lastPrinted>2013-06-12T14:28:04Z</cp:lastPrinted>
  <dcterms:modified xsi:type="dcterms:W3CDTF">2013-08-30T04:54:03Z</dcterms:modified>
  <cp:revision>509</cp:revision>
  <dc:subject/>
  <dc:title>L’intelligence ambiante</dc:title>
</cp:coreProperties>
</file>